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208-AD35-43B1-894C-590DFAEE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0D7-8A36-4159-B3E7-7E619706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132-6B01-4B4A-A740-B1C3464C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262-6E99-4D5D-8DBC-CA28C40E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5148-4BA9-445F-975E-FF093628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E12E-3D74-496C-8028-45F5BCAE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4D81-459E-455F-92FD-EE208577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DA5D-B825-4431-93C7-E7F8240E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2A14-BD3E-42FC-A5BA-AE92D475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485D-9C9E-4727-8F1A-4902EC22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0D02-1F07-4008-B024-A06C50D2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1D2-831E-4A6A-B6F8-36BF4B2C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82F1-E8E5-4358-A88E-28CD2722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BF73-D3E0-4C91-BCEC-8B3CFF1E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A6AE-9080-4378-94AE-ABDC372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2735-F4FF-4B01-808B-A4C66AEC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3987-2B9D-4E61-8FD0-2C37E0AF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9A2-AAAC-4FCB-9E46-697ABC53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F6A-9315-450C-B29D-32B74FD7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28A-6E26-468F-B6A9-538CB388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CF4-8360-4772-B316-712C8420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C1D-6DAE-4178-AAE1-D93A07C7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85C-BD79-4E01-9295-7ED8863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BB1-B25B-43D3-9D65-6C0AC2C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4EDD-40B8-4F1F-8D2E-9FEC830DE2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7FAD-FDE4-45C6-B0A8-90ACC7CBC1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ZIRLAY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İNE HATİPOĞ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63640" y="1628640"/>
            <a:ext cx="6048360" cy="21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ÜKLEİK ASİTL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516720" y="3933720"/>
            <a:ext cx="2022480" cy="2594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000160" cy="256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RNA) RİBONÜKLEİK ASİ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 zincirlidir.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Riboz şekeri bulunur.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Nükleotitleri A,U,G,S’dir.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Kendini eşleyemez.DNA’dan sentezlenir.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• Mitokondri,kloroplast,çekirdek ve sitoplazmada bulunabilir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4465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3 çeşittir ve hepsi de protein sentezinde görevlidir.çekirdekte üretilir ve tekrar tekrar kullanılabilirle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iboz şekeri bulunduran Adenin nükleotidi RNA’dan başka ATP,NAD,NADP ve FAD gibi moleküllerinde bulunu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azı virüslerde sadece RNA bulunduğu için bunlarda RNA kalıtsal görevi üstlenmiştir,yani kendini eşleyebilir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816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36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NA’nın yapısında protein yoktu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RNA’ların DNA üzerinden sentezine transkripsiyon (yazılma) den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Bu olay DNA’nın tek zincirinden olu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Bu olayda görevli enzim RNA polimeraz enzimidir. 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RNA’ya şifre veren DNA parçasına gen deni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99000" y="1268280"/>
            <a:ext cx="4365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A) mRNA (Elçi RNA = Mesajcı RNA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NA’dan aldığı bilgiyi ribozoma taşı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ibozom birimlerini aktifleştirir ve protein sentezine kalıplık yapa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Her protein çeşidi için ayrı bir mRNA sentezlen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Bir mRNA aynı proteinin sentezinde çok defa kullanılabil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Yeterli protein sentezlendikten sonra mRNA yıkılı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mRNA düz bir zincir biçiminde olup hücredeki RNA’ların en az oranda bulunanıdı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A) mRNA (Elçi RNA = Mesajcı RNA)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6000" y="2060280"/>
            <a:ext cx="446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RNA’ daki üçlü nükleotit grubuna kodon den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r kodon bir tRNA ve bir aminoasiti belirl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tr-TR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=64 çeşit kodon vardır.Bunlardan biri başlama kodonu (AU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üç tanesi de (UAG-UGA-UAA) bitiş kodonud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tiş kodonlarının aminoasiti yoktu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889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) tRNA (Taşıyıcı RN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48243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itoplazmadaki aminoasitleri mRNA’ daki şifreye göre ribozoma götürü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RNA’ daki üçlü nükleotit grubuna antikodon denir.Maksimum 64 çeşit antikodon olması gerekirken 61 çeşit antikodon vardır.Bunun sebebi ise bitiş kodonlarının aminoasitlerinin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lmamasıdı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üz zincirli değildir.Belli bölgelerinde çiftler oluşmuştu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32731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C) rRNA (Ribozomal RN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oteinlerle birlikte ribozomun yapısını oluşturur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üz zincirlidi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ücredeki RNA’ların çoğu rRNA’dı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0000" y="2205000"/>
            <a:ext cx="4464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71640" y="2997360"/>
            <a:ext cx="8002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Nİ DİNLEDİĞİNİZ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İÇİN TEŞEKKÜR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NÜKLEİK ASİT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773360"/>
            <a:ext cx="828036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moleküller ilk defa Friderich Miescher tarafından balık spermi ve akyuvar çekirdeğindetespit edilmiş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çok çekirdekte bulundukları için nükleik asitler(çekirdek asitleri) diye isimlendirilmiş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sidik özelliğe sahiptirler.Hücre yönetiminden sorumludur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DNA ve RNA olmak üzere 2 tip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nlar hücrenin en büyük dev moleküllerdir.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Nükleotitlerden oluşmuştur.Onun için DNA ve RNA birer polinükleotid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ÜKLEOTİ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4762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ükleotid denilen birimlerden meydana gelmişlerd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ükleoti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Fosfat(H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),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 C lu şeker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zotlu organik bazdan oluşur. Nükleotidler isimlerini taşıdıkları organik baza göre al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8768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A-RNA YAPISAL FARKLILIKL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2133720"/>
          <a:ext cx="8002440" cy="4031640"/>
        </p:xfrm>
        <a:graphic>
          <a:graphicData uri="http://schemas.openxmlformats.org/drawingml/2006/table">
            <a:tbl>
              <a:tblPr/>
              <a:tblGrid>
                <a:gridCol w="1600560"/>
                <a:gridCol w="1600920"/>
                <a:gridCol w="1599120"/>
                <a:gridCol w="1600920"/>
                <a:gridCol w="1600920"/>
              </a:tblGrid>
              <a:tr h="736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ÜKLEİK AS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T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5 C’LU ŞEK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’LU ORGANİK 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SFORİK ASİ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ÜR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İMİD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OKSİRİB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E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A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İTOZ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İM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İB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E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AN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İTOZİ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ASİ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) DEOKSİRİBONÜKLEİK ASİT(DNA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ift zincirlidir ve sarmal yapıdadı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Deoksiriboz şekeri bulunu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Nükleotitleri A,T,G,S’d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Adenin sayısı Timin sayısına,Guanin sayısı Sitozin sayısına eşitt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Adenin ile Timin arasında iki,Guanin ile Sitozin arasında ise üç tane zayıf hidrojen bağı vardır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1050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46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Kendini tek taraflı olarak eşleyebili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Genlerdeki değişmeye mutasyon deni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itokondri ,kloroplast ,çekirdek ,çekirdek yoksa sitoplazmada bulunabilir. Ancak kloroplast ve mitokondrideki DNA’lar kalıtım materyali sayılmazlar,bunlar eşlenirken çekirdek DNA’sına </a:t>
            </a:r>
            <a:br>
              <a:rPr sz="1600"/>
            </a:b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ağımlıdırla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DNA tabiatta kendini eşleyerek benzerini yapabilen tek moleküldü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DNA sentezi sırasında açığa çıkan su sayısı (n;nükleotit sayısı olmak üzere) 3n-2 tanedir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2060640"/>
            <a:ext cx="2489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NA’nın Eşlenmesi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(Replikasy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55640" y="1988640"/>
            <a:ext cx="4599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NA kendini yarı korunumlu olarak eşle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Bu olaylar hücre bölünmesinin interfaz safhasında meydana geli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Replikasyonda görev alan enzim DNA polimeraz enzimidir.(Şekil-1) 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• DNA’nın kendini bu şekilde yarı korunumlu olarak eşlemesine seminkonservatif eşlenme deni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9000" y="1989000"/>
            <a:ext cx="4017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4321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r hücrede DNA’nın eşlenmeye başlaması hücrenin mutlaka bölüneceği anlamına geli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ğer DNA bir ucundan değil de orta kısımlarından açılırsa protein sentezi için şifre verecek demektir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2706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NA’nın Görev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onuçta; oluşan DNA’lar aynı genetik bilgiyi taşır,hücre sayısı artar,canlılarda büyüme ve üreme olur, üremeyle karakterler yavrulara aktarılır.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• DNA’nın görevi canlılar arasındaki çeşitliliği sağlamak ,hücreyi yönetmek ,replikasyon ile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nlılarda büyüme ve kalıtsal karakterlerin aktarılmasını sağlamak,trankripsiyon ile de RNA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entezini yapmaktı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20:47:31Z</dcterms:created>
  <dc:creator>samsung</dc:creator>
  <dc:description/>
  <dc:language>en-US</dc:language>
  <cp:lastModifiedBy>samsung</cp:lastModifiedBy>
  <dcterms:modified xsi:type="dcterms:W3CDTF">2010-12-22T23:21:08Z</dcterms:modified>
  <cp:revision>3</cp:revision>
  <dc:subject/>
  <dc:title>Slayt 1</dc:title>
</cp:coreProperties>
</file>